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A47-B5D2-4B54-9778-02904F08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310-111A-4631-9928-6A34024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67F3A-EA3F-4733-B227-BA45BCA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5DCBF-BEA0-476D-B3E5-2A70CA6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20884-0D08-40D1-AC78-D778802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F09E1-BC76-4F97-8204-FAEF2B2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588F-8A73-4F8D-AF5A-F91B63B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0942A-E874-472C-B412-4382F92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981B7-177B-43B8-BA61-B078DE10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FF3E-67A5-4A34-B62F-85F8557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5E430-2372-41F3-854A-247E1011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BE0BF-5083-455A-A5CA-CF0CC8A9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49A-07AC-4BCC-AE75-2768D93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8F9A2-4684-40DE-9732-AFBEC05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2561F-D04F-4D45-A3EB-7A7A435D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D5F27-8F13-4DA9-AD31-E4F7E17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7CA5-142D-4752-B74E-3A128342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6429-D453-471C-BAF2-497BF8A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D9780-1D76-45DF-A9E8-91454D7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4EFA3-7B75-460E-94E6-E4B69F2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FC11E-2EB5-437C-8375-96F588F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A9FCA-82ED-42F7-A165-BF3AF82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A85F2-2C12-4224-843E-36809C7C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2EE-85AD-4BC4-A465-367053DC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EF106-3044-40A9-BEAB-8744148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7BA7-5A27-42DB-A085-4744202C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86383-ADDD-40D4-B332-86E3B31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8B2CD-B14C-407C-B189-DE120D0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2773-D2B0-4F2A-858B-64BE6B8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58B5F-FC4F-4690-BC90-8290B30D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2F4C6-BE99-44CA-AC26-E7416350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9A2DC-C417-4FA6-AC8E-4C7AA14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7D085-24AB-473D-9E24-047494E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8B921-14EF-4D4B-95AB-D33619D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E055-F640-4EFB-B606-A39C67CC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AF4BA-5B4F-418F-A83B-AA0AF45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CC55-F1E3-48D3-A614-D9C51FFF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CA79D-62FC-41DB-8778-1179CA63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972A6-33E9-49ED-B9F9-57036D07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819E6-B2BC-40C8-9788-93BF2382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874B-8457-494E-B454-F267946B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DACB-B3B5-4B5F-9028-2360B2B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781AA-76CD-4786-822B-9B3C3CB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8C39-689B-468A-9586-71120F2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79C98-74C5-4875-8D77-66C9142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02DE-55C0-472F-A408-547B6744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FA10B-D508-4FE2-A347-9C55052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5DB3-0C58-4639-9162-39703BE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98E47-992A-4625-A31E-DB63DF0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78EE9-BD5A-42EE-8C36-C8FB157A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783F-6B81-4719-B026-A9C9684E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05567-96CB-41CA-8CFB-308324F0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99CFD-ECBB-4C5A-9DB6-4E80E71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6BFD-FBF6-4AEE-8F3B-58EF99C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40C94-7562-4D26-8F56-7F5BEB8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D23CD-5F0E-4707-AD93-BD4ECC3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769D-0EE3-45E2-8FE9-DA0080DB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5463-3F34-4913-93EF-D81A50A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1C908-2D82-4016-89A1-F0CACC0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1936A-D340-4AE0-9D44-BE510C0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9208D-2562-4BD1-B740-1535D51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CBB77-D121-49A5-AEB6-AA51DCB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235BE-57CC-46E0-99DF-3F469E7D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DB1C5-BDC2-4F78-9F51-7D26C8DC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A8F0B-5FEE-4142-8EC5-1776DAC1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37563-BDBF-45F7-ADF6-684264E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153BA-B77E-4C4D-BFA9-ECE7791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F93-0F2B-4675-99CF-8123398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E0947-7960-41A4-A037-246771D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84327-3AF5-45DA-AD58-BF4ABC0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DBEAA-8FCF-416D-A08A-958012CD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19216-4618-492F-AC15-83D1520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021F7-C462-480D-8A09-4A60083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50597-C21F-44BB-950B-1201112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AB5F4-20CC-4001-BA6D-F8B8F896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1AD54-9136-4FE1-8AAE-67AF278C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E47B5-1D70-4A54-8EA4-095C649D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36159-F2D6-41EA-9D00-4D0093E4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CE0-FC02-498A-88F3-C61F07B7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90A44-32F2-4B4B-AA73-5E14520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7C827-A8AF-4532-84A5-23158BF6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DEF5A-5F61-4A90-9D5F-A69C0D2A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0AD97-A851-4D68-98E0-468219D9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6AE08-FE1B-43C0-8924-FAB282F0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39B32-0433-4FB2-8104-69F41C3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2DC5E-9D0D-41FA-B3F1-607E71CD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4A223-D20A-441D-ADD2-AB2BCCA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BCFD8-1A54-46E5-8183-DC2619A7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38AB3-6D4E-4A69-A2E2-D063582C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1BA-2834-4FA8-919C-4798A58C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3C1FD-F37B-4302-A0CB-28515740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65C37-EDE8-44CA-85E7-8A07962F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D70A2-1EEE-47DB-99E7-07E58F4F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DB5CC-3890-4B77-955B-CD6246C7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DE2F1-AC6A-4649-8868-BCE3B175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D5D76-AE89-4200-A17E-2337A21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2EBCE-0910-4171-BB5F-740EFE30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FEFE4-E3D4-4064-940F-09807108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7F11E-AFA2-42FC-A661-9BAB911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2ED57-6A3B-4573-9416-6EC4A07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D0E7-9460-409D-A3BF-3444B1E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C3D82-2BE9-48C7-BE5C-7465E72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2AF6F-0C69-4863-99ED-6901EBB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A3BBA-73A6-4BBC-B822-0B52E8C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28C62-79DC-4784-A719-DEFD4DF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74170-457D-46CC-AA77-7649EAB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5E667-C442-4D8F-A6DD-95FF0C9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AC87E-545E-44F5-BD4F-1CF4FFD3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4DAC1-1ADF-4402-AB48-BFC384F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ADA69-1B5D-4C56-98DB-1E097E6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F6247-B0C2-4FB4-96FA-AB62FCD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83A-1CFA-4358-87CA-12631238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70D7-DA30-406B-8E67-549D038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993EB-4025-4CB3-A583-D638724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81102-6263-48BA-B082-87F77D6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8ED56-CC5A-47F1-8D63-3C84E9B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79149-AC09-4871-9325-56060852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25DFF-E91F-4D25-A7CF-B3606FCE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6CBE8-0EF9-474E-B4C0-94CF0634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831E0-F7DB-456F-A916-7F91C88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EAE2A-C71E-42E6-86F4-59F2906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1F6A8-0A2D-43CB-A3C1-8AD4517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5EA82-88D3-4472-AC2A-C9905AD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BF45-8E9A-4920-8827-7C426D6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7DC4B-E260-47F0-BE57-BBF7B0C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DE905-16BC-4C93-B4FB-8C325E5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A00DB-5EFB-42C0-9BCF-D83BD8E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38BA6-59B4-444A-B6AD-74A2505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EECEF-BF70-4403-AAB6-649B5D65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B1E00-226C-48C1-A560-28756A5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65D1F-6A65-4F5B-9427-FFCE5141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655E8-4E14-41A5-A0BE-A4C77462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EF3AD-8928-4B13-B5CC-42971C7D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09955-F310-42E4-B9F5-FB8B7A5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5F86-F8B9-4BF3-8EE3-68EC4182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0EA1A-8DC8-4471-86D1-283C198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BA8C2-ABAD-44B7-97B5-6CD1281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15F63-0F9D-4531-AFE9-5096428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370E2-2167-4528-A327-12769A9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A8D89-43F5-4B86-AE98-37C3921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226F8-FD3D-4A00-A512-B366150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57ADE-E1E0-4C28-96F5-2A3878D2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1BC6E-5CFD-4C97-B9B9-99FB7536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0DB8F-F367-42D9-88B1-689A865A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25B2A-ED3A-404C-AC45-B2E6E39E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E50A-802F-41BA-A7C8-851DAD3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541A7-76C1-4E6E-91D9-67F951F8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C20DE-569B-4F27-AD8E-7F54751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55526-06FE-4679-861B-E7D832B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FCFFA-5443-461D-BB1D-564EB4D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F38E6-A7E5-474D-9BB7-B347DFBB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02CFC-B518-4BB5-8EC4-00716914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4422A-60B9-4A95-95B3-A644465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9CC60-E25E-470A-9234-0FC644BD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C5FA3-81CB-4A65-895A-A0AEC4C8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C6C83-B7C6-471D-A7DA-7678A05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E8C-171E-4BF4-A312-7641A92B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ED9C1-24FF-4E8D-A39A-D60B3408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D9CBA-3556-4330-AD28-195AE05B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613D5-812A-4EC9-B4D1-9CCF96E4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F9AC9-5E18-430D-9943-FFAF86B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2A2AEA-821F-4F64-BD31-4438353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4C90C-641C-4A1E-A6B0-D29ACFD8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D09EC-4F43-457D-B05F-4DB865A4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E74F5-F84C-4DB5-BF83-313DF71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6BEC1-1ADC-4B7A-A718-544E6EB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B2264-66D5-46DC-9212-2D57247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D8F2-C240-423F-8B5E-F6786166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1D69F-3CA6-4083-94F6-A5BDA83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C2264-B65C-41F8-B433-48F10438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AB4BA-4D8C-4E28-B71D-EF7C7098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7A679A-E33E-4316-9467-D9E97A61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44AB04-5E53-4A1A-941B-DC49233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BF6F7-DEFB-4B8C-B338-5917523C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3770A1-F65F-4D13-90FF-73A8C04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E2C222-1DCA-4943-A766-83A1876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B17FF9-2B70-4765-9D3A-1BFD4932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35F8C-E5A5-4C8E-BA60-0E243D2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B8DD-97D5-416C-A5D1-BB25627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77B81C-EDDA-4E35-B512-66FFE1A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808A2-9424-4457-866F-99597B8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7540A-E964-40BF-9A29-9A483DB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EB8A4-B068-4B2E-A2C0-9C5E371D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BF2E5-17D7-4BD0-95B2-9103B298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20F06-6912-4F1F-9A22-FB216B1D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3F327E-FB36-4941-BDEB-ACB2E55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327B5-26F3-4F20-8E7D-2BE4B9F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FD9E8C-D661-444D-9BA4-2184B94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D898F-FA6D-4BF3-94B4-1BFF01F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A3FF-691D-4512-A3B9-8846722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F9163-1B16-4E70-B698-22A1960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5F72E2-3EB6-42B6-9EC7-ADC22CD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8873F-8A43-47D5-873C-96F81CB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DFCF60-8DAE-4542-81C2-E172BAF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DE362-A870-4EB4-9C40-E8DB25F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E9064C-456C-4557-8724-781DCE73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589598-EE86-44C8-9538-E6B40B0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12D6-82C2-4C3C-98BE-CF7A517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E2BE-B149-4DF4-B4E5-DA11C85C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1BB-854C-4A45-AB11-CBD1007C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76D1-9297-47CD-AC03-96FB235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BA3B-506D-4F64-8CD4-0B851FA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A680-B287-4343-A149-1E035FF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73B3-5B1F-407F-B755-EB53CCA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1628-3661-443E-82D6-FAFF5D9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EAFF-C8E5-4BD1-8E83-C58FB5AA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525A-3C53-43EC-A17B-14044642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EE21-AE46-41D7-872F-8DBABBEB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E2C6-47DA-46AE-9CA5-4F77A44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3D9C-4731-4699-926A-5B90EF9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6A4-FCB8-45FC-BBD3-526EB53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4CF3-4610-4746-9B62-79F4845F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DEB7-9832-48E9-9E91-832EA9A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02AD-56B7-431D-B352-C46AE80D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7F71-4403-4190-9930-E2059A0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B3BB-C4A2-4EB4-8CD0-F06797C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F6EB-30E1-42A6-8765-1A53645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9A98-D23D-42E0-8021-5D7CAB11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BC1E-F07B-472C-B2F1-DBD477E8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346F5-B658-4281-A15F-5786C3E8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6927-BE7A-423A-A3A8-6AC80E2E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BE9-B6D5-443B-81A0-54A0DEEF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77E5-1DD2-40F8-8809-F74479B9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2224-C14F-4BEE-8E99-2538A22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26D5-1289-469D-8D83-E728A34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57A5-FB11-49F8-8AE8-E0094CD3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7CFD-E803-451C-9B6C-6200429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0858-C3AC-404F-A868-53A4900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0710-BA53-4D0C-8AA0-EC2A4BD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21604-6DDD-4739-A1A4-B3D8816A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2AB8-42BA-4AE8-8932-AC160231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A1DB-DB38-4BD1-A12D-CF5E959F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77D-1E27-4218-8619-F2F2592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EA29-6283-47BC-92B0-78FF552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E7C77-9AB6-4293-BEB4-82B59202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6C3BA-329E-4EC6-B7C9-E46A11F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888E-1CED-4D6F-AECE-4E0EFA9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0F1E-F4A3-474D-BAD3-6AEDDBE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9D1A-5CA8-46CD-A01D-9A604BF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8F2C-5DA5-46E5-8684-D9E54404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A027-3B21-42B5-AD50-D9C3EA7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E0EF-5DF0-427D-B15E-8904F64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00B54-18CC-4E5E-8AC9-B57E552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E29-AEFA-46E8-B83E-8876F1F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6A9F-38B2-4D71-A051-3D2C13D2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E394-1894-4328-B992-3E495F74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9BAD-B4C3-4CCC-919D-5B96EFBA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FACD-B1FE-4B09-BE3E-4C79CC5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D0BA1-82C7-4721-8F46-FAC7654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1993-CF67-4A83-AA5C-2594D30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1DA2F-C360-4202-9A59-63846B9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06C0-DA28-466B-92A4-37825A7C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852E-A16B-46B0-821A-FAEC9C8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AFE8-E29A-46C6-A8F0-AE2A9BB9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C94-FB9B-4217-A42A-E8505DB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8AE6-4B2F-4EB7-804B-0FA4E28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4160-0B30-464B-9337-0D98CF8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7227E-126A-4F2B-984A-5225E80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A3DB-816A-4CA4-92A9-D9648466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D912-712B-42ED-A465-F900E315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1DFB-49E7-436B-BCE8-FF2E0EE5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E7ED-B688-4FD7-ADB7-EFBDFC20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3C46-B9C2-49F7-BB83-A1603A3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C31A-2240-4FF1-881D-943BEBFB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E0DD-6B13-4573-B977-4EBD9A1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F27-516F-4814-99DF-1F9CB9C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3895-076E-403B-BF67-C75FCF4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0BB0C-7BDA-4AFA-AC73-907446E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7586-30E1-4BC5-A0E7-1BF8780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5DD2-E67F-4C47-BB38-BDFAFF7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F1FD0-437C-4C63-9A18-2F453837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DFBA-2CD8-4E31-BF19-2DA5EBD1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C6761-84AE-422C-A3CA-E41403B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59009-C6B7-4D20-8AE5-943A9710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BC15-C85E-4ACD-A70B-E20385A7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CAF0-5A74-45BF-8599-4F08A266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E67-BDE6-483F-A19A-0D97B1D32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4BA-2659-4E08-8759-401A94DCA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1EA8-1792-46DC-AAF3-764F703AF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D728-3FF2-4003-930B-491699D7A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4017-5C3B-4D3F-9396-80AF135DE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265-719B-43CB-ACFE-6E51E0BAF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67A-A62A-4E2A-94E7-848D88531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ABC6-86ED-4F3B-B908-3C6086B4A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AC7-6708-42AB-8586-282E677E1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883-1405-4097-B49D-72957A7F4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3B8-1509-47EC-9448-132FC57F5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1F0-8E23-4A61-91BC-431D94AAD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5F28-126F-4FAC-837C-2108E53188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8FA-08B2-4744-A45B-3B13B5E059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1D0-0DD0-4BCE-867B-AA3AFF6B9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0C2-40CD-47E3-B10C-C6CE250CA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98B-4DB2-402D-B057-FCFE427C6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8C7-B30B-4B53-A688-048C755A34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F61C-D124-406B-AA7C-390A3ADAE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5CD-5475-4F6F-904E-A75D526C2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029-8511-44EA-A520-13A5E2EBC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1C73-DD2E-4439-BC62-9BFCBBF171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481-9A6B-48F0-823D-6AD2CE080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4DF-C9CA-4650-A75D-999938DD0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FAA5-8F24-49EA-8AF7-CCFBE4F95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D5E-87F8-4405-A73E-A65F14BDE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BF4-89C3-4295-B78D-0D7D4DF7C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B47-AA2B-4F74-860A-CD4AF013F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238A-D346-4B7F-AA98-FF3A9D36BA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5A4C-2C95-4313-B341-2ED09DFE8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0D7-1ED4-46C8-AA75-A025F5A73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0DA-C3CE-468C-A692-1A3F5E764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D0D1-CB58-427B-AB70-84AA00E12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826C-E67B-45DC-96AE-A77145BA5F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48A-9960-4E50-ADF4-9177F59AF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FC4-7F3F-4F55-84E0-3357E2CF2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272-D4DF-43CC-BDCC-3773E306D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1ADD-42DD-4D3D-90BA-14159D336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6D3-5AC4-450D-ABCC-532F70752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0671-CBFB-4CC7-8EDB-2E533EEB1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2A5E-F9EC-4B1D-BF4E-81D3EB857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FAE-6F04-47AF-B96F-8390AC021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62000" y="1252440"/>
            <a:ext cx="5096160" cy="12668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1682640" y="3605040"/>
            <a:ext cx="59914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82480" y="74520"/>
            <a:ext cx="8301240" cy="670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187280" y="5084640"/>
            <a:ext cx="51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258920" y="566100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628020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76040" y="1476360"/>
            <a:ext cx="8791920" cy="39052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536400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4140360" y="2997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1008000" cy="663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2050920" y="4869000"/>
            <a:ext cx="1441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547560" y="1595520"/>
            <a:ext cx="8048880" cy="3666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4067280" y="29242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115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52640" y="1247760"/>
            <a:ext cx="7038720" cy="4362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3995640" y="49402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33280" y="1314360"/>
            <a:ext cx="8677440" cy="42292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3203640" y="213372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5292720" y="263700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524720" y="2133720"/>
            <a:ext cx="14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490680" y="901800"/>
            <a:ext cx="8162640" cy="5429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2592360" cy="2950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2987640" y="981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4859280" y="2133720"/>
            <a:ext cx="3457800" cy="4174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6875640" y="9810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619280" y="1452600"/>
            <a:ext cx="5905440" cy="3952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2268360" y="301140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2268360" y="3645000"/>
            <a:ext cx="511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2195640" y="4365720"/>
            <a:ext cx="51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19120" y="395280"/>
            <a:ext cx="6305760" cy="6391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2195640" y="10666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2195640" y="171468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979640" y="23493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979640" y="299736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2124000" y="494172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2050920" y="558972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2050920" y="6251400"/>
            <a:ext cx="46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81080" y="1271520"/>
            <a:ext cx="8781840" cy="4314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676944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784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4:5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